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6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17BF-07EB-434C-9C7C-B203CEFE6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FDDE-25A5-42D6-8480-0309D44EA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163C-8C52-46F5-9B5C-F56C70BB6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E2E1-25D4-45B7-8513-667AB2470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5712-3E2E-42EA-86E8-3112434DB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3C8B-8CF7-44A8-9A87-8ACB6EE55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EE14-06FD-4517-8BB8-D9A92CEFD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60E4-95E9-414C-B45E-AF4CFEEF0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F0B5-4227-4F89-83B8-D9B0AC248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3EF4-A2FF-42D0-88F3-66C17584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88A9-4627-45AF-A29F-5AC2B971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E62E-379C-436D-887A-2080C2BBB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42BA3-9175-42E9-9C84-397FE8BFD7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en/0/0b/Fate-animals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en/3/39/Kandinsky_white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7"/>
          <p:cNvSpPr txBox="1"/>
          <p:nvPr/>
        </p:nvSpPr>
        <p:spPr>
          <a:xfrm>
            <a:off x="2743200" y="990720"/>
            <a:ext cx="3919680" cy="35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Exotc350 Bd BT"/>
              </a:rPr>
              <a:t>Early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Exotc350 Bd BT"/>
              <a:ea typeface="Exotc350 Bd B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Exotc350 Bd BT"/>
              </a:rPr>
              <a:t>Modern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Exotc350 Bd BT"/>
              <a:ea typeface="Exotc350 Bd B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Exotc350 Bd BT"/>
              </a:rPr>
              <a:t>Art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Exotc350 Bd BT"/>
              <a:ea typeface="Exotc350 Bd BT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1752480" y="5334120"/>
            <a:ext cx="6019920" cy="82548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Ms. Susan M. Pojer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Horace Greeley HS    Chappaqua, 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5029200" y="534960"/>
            <a:ext cx="3733920" cy="191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Henri Matisse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bbe0e3"/>
                </a:solidFill>
                <a:latin typeface="Exotc350 Bd BT"/>
              </a:rPr>
              <a:t>Carmelina</a:t>
            </a:r>
            <a:br>
              <a:rPr sz="3400"/>
            </a:b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(1903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4876920" y="36576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FAU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Carmelina"/>
          <p:cNvPicPr/>
          <p:nvPr/>
        </p:nvPicPr>
        <p:blipFill>
          <a:blip r:embed="rId1"/>
          <a:stretch/>
        </p:blipFill>
        <p:spPr>
          <a:xfrm>
            <a:off x="304920" y="304920"/>
            <a:ext cx="4311360" cy="6248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6" name="Text Box 8"/>
          <p:cNvSpPr/>
          <p:nvPr/>
        </p:nvSpPr>
        <p:spPr>
          <a:xfrm>
            <a:off x="5257800" y="4343400"/>
            <a:ext cx="35812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use of intense colors in a violent, and uncontrolled w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ild Beast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228600" y="2590920"/>
            <a:ext cx="3429000" cy="191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Henri Matisse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bbe0e3"/>
                </a:solidFill>
                <a:latin typeface="Exotc350 Bd BT"/>
              </a:rPr>
              <a:t>Open Window</a:t>
            </a:r>
            <a:br>
              <a:rPr sz="3400"/>
            </a:b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(1905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Open Window, Collioure"/>
          <p:cNvPicPr/>
          <p:nvPr/>
        </p:nvPicPr>
        <p:blipFill>
          <a:blip r:embed="rId1"/>
          <a:stretch/>
        </p:blipFill>
        <p:spPr>
          <a:xfrm>
            <a:off x="3767040" y="304920"/>
            <a:ext cx="4996080" cy="6172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76320" y="228600"/>
            <a:ext cx="899136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Georges Braque: </a:t>
            </a:r>
            <a:r>
              <a:rPr b="0" i="1" lang="en-US" sz="3400" spc="-1" strike="noStrike">
                <a:solidFill>
                  <a:srgbClr val="bbe0e3"/>
                </a:solidFill>
                <a:latin typeface="Exotc350 Bd BT"/>
              </a:rPr>
              <a:t>Violin &amp; Candlestick  </a:t>
            </a: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(1910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braque"/>
          <p:cNvPicPr/>
          <p:nvPr/>
        </p:nvPicPr>
        <p:blipFill>
          <a:blip r:embed="rId1">
            <a:lum contrast="6000"/>
          </a:blip>
          <a:srcRect l="4288" t="4587" r="4288" b="3256"/>
          <a:stretch/>
        </p:blipFill>
        <p:spPr>
          <a:xfrm>
            <a:off x="533520" y="1371600"/>
            <a:ext cx="4081320" cy="5029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71" name="Rectangle 6"/>
          <p:cNvSpPr/>
          <p:nvPr/>
        </p:nvSpPr>
        <p:spPr>
          <a:xfrm>
            <a:off x="5486400" y="1828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CUB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4952880" y="2611440"/>
            <a:ext cx="388620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subject matter is broken down, analyzed, and reassembled in abstract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ezanne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The artist should treat nature in terms of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the cylinder, the sphere, and the c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685800" y="2286000"/>
            <a:ext cx="3581280" cy="295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Georges Braque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bbe0e3"/>
                </a:solidFill>
                <a:latin typeface="Exotc350 Bd BT"/>
              </a:rPr>
              <a:t>Woman with a Guitar</a:t>
            </a:r>
            <a:br>
              <a:rPr sz="3400"/>
            </a:b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(1913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Braque"/>
          <p:cNvPicPr/>
          <p:nvPr/>
        </p:nvPicPr>
        <p:blipFill>
          <a:blip r:embed="rId1"/>
          <a:stretch/>
        </p:blipFill>
        <p:spPr>
          <a:xfrm>
            <a:off x="4952880" y="228600"/>
            <a:ext cx="3691080" cy="6477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152280" y="304920"/>
            <a:ext cx="899172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Georges Braque:  </a:t>
            </a:r>
            <a:r>
              <a:rPr b="0" i="1" lang="en-US" sz="3400" spc="-1" strike="noStrike">
                <a:solidFill>
                  <a:srgbClr val="bbe0e3"/>
                </a:solidFill>
                <a:latin typeface="Exotc350 Bd BT"/>
              </a:rPr>
              <a:t>Still Life: LeJeur</a:t>
            </a: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  (1929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Still-Life, Le Jour"/>
          <p:cNvPicPr/>
          <p:nvPr/>
        </p:nvPicPr>
        <p:blipFill>
          <a:blip r:embed="rId1"/>
          <a:stretch/>
        </p:blipFill>
        <p:spPr>
          <a:xfrm>
            <a:off x="1257480" y="1247760"/>
            <a:ext cx="6667200" cy="5153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152280" y="152280"/>
            <a:ext cx="8382240" cy="112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Pablo Picasso: </a:t>
            </a:r>
            <a:r>
              <a:rPr b="0" i="1" lang="en-US" sz="3400" spc="-1" strike="noStrike">
                <a:solidFill>
                  <a:srgbClr val="bbe0e3"/>
                </a:solidFill>
                <a:latin typeface="Exotc350 Bd BT"/>
              </a:rPr>
              <a:t>Les Demoiselles d’Avignon</a:t>
            </a: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  (1907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Les Demoiselles d'Avignon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447920" y="914400"/>
            <a:ext cx="5403600" cy="5638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152280" y="228600"/>
            <a:ext cx="899172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Picasso:  </a:t>
            </a:r>
            <a:r>
              <a:rPr b="0" i="1" lang="en-US" sz="3400" spc="-1" strike="noStrike">
                <a:solidFill>
                  <a:srgbClr val="bbe0e3"/>
                </a:solidFill>
                <a:latin typeface="Exotc350 Bd BT"/>
              </a:rPr>
              <a:t>Studio with Plaster Head</a:t>
            </a: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  (1925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picasso19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9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5562720" y="2041560"/>
            <a:ext cx="3352680" cy="243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Pablo Picasso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bbe0e3"/>
                </a:solidFill>
                <a:latin typeface="Exotc350 Bd BT"/>
              </a:rPr>
              <a:t>Woman with a</a:t>
            </a:r>
            <a:br>
              <a:rPr sz="3400"/>
            </a:br>
            <a:r>
              <a:rPr b="0" i="1" lang="en-US" sz="3400" spc="-1" strike="noStrike">
                <a:solidFill>
                  <a:srgbClr val="bbe0e3"/>
                </a:solidFill>
                <a:latin typeface="Exotc350 Bd BT"/>
              </a:rPr>
              <a:t>Flower</a:t>
            </a:r>
            <a:br>
              <a:rPr sz="3400"/>
            </a:b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(1932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Woman with a Flower"/>
          <p:cNvPicPr/>
          <p:nvPr/>
        </p:nvPicPr>
        <p:blipFill>
          <a:blip r:embed="rId1"/>
          <a:stretch/>
        </p:blipFill>
        <p:spPr>
          <a:xfrm>
            <a:off x="304920" y="304920"/>
            <a:ext cx="4941720" cy="6324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152280" y="152280"/>
            <a:ext cx="899172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Paul Klee:  </a:t>
            </a:r>
            <a:r>
              <a:rPr b="0" i="1" lang="en-US" sz="3400" spc="-1" strike="noStrike">
                <a:solidFill>
                  <a:srgbClr val="bbe0e3"/>
                </a:solidFill>
                <a:latin typeface="Exotc350 Bd BT"/>
              </a:rPr>
              <a:t>Red &amp; White Domes</a:t>
            </a: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 (1914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domes"/>
          <p:cNvPicPr/>
          <p:nvPr/>
        </p:nvPicPr>
        <p:blipFill>
          <a:blip r:embed="rId1"/>
          <a:srcRect l="4328" t="2753" r="1742" b="2728"/>
          <a:stretch/>
        </p:blipFill>
        <p:spPr>
          <a:xfrm>
            <a:off x="2057400" y="914400"/>
            <a:ext cx="5168880" cy="5486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152280" y="212760"/>
            <a:ext cx="899172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Paul Klee:  </a:t>
            </a:r>
            <a:r>
              <a:rPr b="0" i="1" lang="en-US" sz="3400" spc="-1" strike="noStrike">
                <a:solidFill>
                  <a:srgbClr val="bbe0e3"/>
                </a:solidFill>
                <a:latin typeface="Exotc350 Bd BT"/>
              </a:rPr>
              <a:t>Senecio</a:t>
            </a: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 (1922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Paul Klee. Senecio."/>
          <p:cNvPicPr/>
          <p:nvPr/>
        </p:nvPicPr>
        <p:blipFill>
          <a:blip r:embed="rId1"/>
          <a:stretch/>
        </p:blipFill>
        <p:spPr>
          <a:xfrm>
            <a:off x="2133720" y="914400"/>
            <a:ext cx="5027400" cy="5562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152280" y="289080"/>
            <a:ext cx="8991720" cy="73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be0e3"/>
                </a:solidFill>
                <a:latin typeface="Exotc350 Bd BT"/>
              </a:rPr>
              <a:t>Themes in Early Modern Ar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1905120" y="1693800"/>
            <a:ext cx="59436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8440" indent="-568440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Uncertainty/insecurity.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Disillusionment.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 subconscious.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Overt sexuality.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Violence &amp; savag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380880" y="457200"/>
            <a:ext cx="3581640" cy="191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George Grosz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bbe0e3"/>
                </a:solidFill>
                <a:latin typeface="Exotc350 Bd BT"/>
              </a:rPr>
              <a:t>Grey Day</a:t>
            </a:r>
            <a:br>
              <a:rPr sz="3400"/>
            </a:b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(1921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George Grosz. Grey Day."/>
          <p:cNvPicPr/>
          <p:nvPr/>
        </p:nvPicPr>
        <p:blipFill>
          <a:blip r:embed="rId1"/>
          <a:stretch/>
        </p:blipFill>
        <p:spPr>
          <a:xfrm>
            <a:off x="4343400" y="304920"/>
            <a:ext cx="4324320" cy="6324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89" name="Rectangle 5"/>
          <p:cNvSpPr/>
          <p:nvPr/>
        </p:nvSpPr>
        <p:spPr>
          <a:xfrm>
            <a:off x="838080" y="29718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D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304920" y="3657600"/>
            <a:ext cx="38862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idiculed contemporary culture &amp; traditional art 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collapse during WW I of social and moral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ihilist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5334120" y="685800"/>
            <a:ext cx="3352680" cy="554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George Grosz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bbe0e3"/>
                </a:solidFill>
                <a:latin typeface="Exotc350 Bd BT"/>
              </a:rPr>
              <a:t>Daum Marries Her Pedantic Automaton</a:t>
            </a:r>
            <a:br>
              <a:rPr sz="3400"/>
            </a:br>
            <a:r>
              <a:rPr b="0" i="1" lang="en-US" sz="3400" spc="-1" strike="noStrike">
                <a:solidFill>
                  <a:srgbClr val="bbe0e3"/>
                </a:solidFill>
                <a:latin typeface="Exotc350 Bd BT"/>
              </a:rPr>
              <a:t>George in May, 1920, John Heartfield is Very Glad of II</a:t>
            </a:r>
            <a:br>
              <a:rPr sz="3400"/>
            </a:br>
            <a:br>
              <a:rPr sz="3400"/>
            </a:b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(1919-1920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George Grosz. Daum Marries Her Pedantic Automaton George in May 1920, John Heartfield is Very Glad of It."/>
          <p:cNvPicPr/>
          <p:nvPr/>
        </p:nvPicPr>
        <p:blipFill>
          <a:blip r:embed="rId1"/>
          <a:stretch/>
        </p:blipFill>
        <p:spPr>
          <a:xfrm>
            <a:off x="352440" y="304920"/>
            <a:ext cx="4371840" cy="6248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533520" y="1981080"/>
            <a:ext cx="3581280" cy="295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George Grosz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bbe0e3"/>
                </a:solidFill>
                <a:latin typeface="Exotc350 Bd BT"/>
              </a:rPr>
              <a:t>The Pillars</a:t>
            </a:r>
            <a:br>
              <a:rPr sz="3400"/>
            </a:br>
            <a:r>
              <a:rPr b="0" i="1" lang="en-US" sz="3400" spc="-1" strike="noStrike">
                <a:solidFill>
                  <a:srgbClr val="bbe0e3"/>
                </a:solidFill>
                <a:latin typeface="Exotc350 Bd BT"/>
              </a:rPr>
              <a:t>of Society</a:t>
            </a:r>
            <a:br>
              <a:rPr sz="3400"/>
            </a:br>
            <a:br>
              <a:rPr sz="3400"/>
            </a:b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(1926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George Grosz. The Pillars of Society."/>
          <p:cNvPicPr/>
          <p:nvPr/>
        </p:nvPicPr>
        <p:blipFill>
          <a:blip r:embed="rId1"/>
          <a:stretch/>
        </p:blipFill>
        <p:spPr>
          <a:xfrm>
            <a:off x="4876920" y="228600"/>
            <a:ext cx="3394080" cy="6324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380880" y="228600"/>
            <a:ext cx="861084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Raoul Hausmann: </a:t>
            </a:r>
            <a:r>
              <a:rPr b="0" i="1" lang="en-US" sz="3400" spc="-1" strike="noStrike">
                <a:solidFill>
                  <a:srgbClr val="bbe0e3"/>
                </a:solidFill>
                <a:latin typeface="Exotc350 Bd BT"/>
              </a:rPr>
              <a:t>ABCD  </a:t>
            </a: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(1924-25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3I00468"/>
          <p:cNvPicPr/>
          <p:nvPr/>
        </p:nvPicPr>
        <p:blipFill>
          <a:blip r:embed="rId1"/>
          <a:stretch/>
        </p:blipFill>
        <p:spPr>
          <a:xfrm>
            <a:off x="2819520" y="1143000"/>
            <a:ext cx="3676680" cy="5305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380880" y="228600"/>
            <a:ext cx="861084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Marcel Duchamp: </a:t>
            </a:r>
            <a:r>
              <a:rPr b="0" i="1" lang="en-US" sz="3400" spc="-1" strike="noStrike">
                <a:solidFill>
                  <a:srgbClr val="bbe0e3"/>
                </a:solidFill>
                <a:latin typeface="Exotc350 Bd BT"/>
              </a:rPr>
              <a:t>Fountain  </a:t>
            </a: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(1917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dchmp_fntn_low"/>
          <p:cNvPicPr/>
          <p:nvPr/>
        </p:nvPicPr>
        <p:blipFill>
          <a:blip r:embed="rId1"/>
          <a:stretch/>
        </p:blipFill>
        <p:spPr>
          <a:xfrm>
            <a:off x="2666880" y="1143000"/>
            <a:ext cx="3934080" cy="5262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533520" y="2286000"/>
            <a:ext cx="3352680" cy="347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Marcel Duchamp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bbe0e3"/>
                </a:solidFill>
                <a:latin typeface="Exotc350 Bd BT"/>
              </a:rPr>
              <a:t>Nude Descending a Staircase</a:t>
            </a:r>
            <a:br>
              <a:rPr sz="3400"/>
            </a:b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(1912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nude_no2"/>
          <p:cNvPicPr/>
          <p:nvPr/>
        </p:nvPicPr>
        <p:blipFill>
          <a:blip r:embed="rId1"/>
          <a:stretch/>
        </p:blipFill>
        <p:spPr>
          <a:xfrm>
            <a:off x="4648320" y="228600"/>
            <a:ext cx="3862440" cy="6372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152280" y="152280"/>
            <a:ext cx="8991720" cy="112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Salvador Dali:  </a:t>
            </a:r>
            <a:r>
              <a:rPr b="0" i="1" lang="en-US" sz="3400" spc="-1" strike="noStrike">
                <a:solidFill>
                  <a:srgbClr val="bbe0e3"/>
                </a:solidFill>
                <a:latin typeface="Exotc350 Bd BT"/>
              </a:rPr>
              <a:t>Soft Construction with Boiled Beans (Premonition of Civil War),</a:t>
            </a: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 1936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FLO_1_td21dali1_207706_0221"/>
          <p:cNvPicPr/>
          <p:nvPr/>
        </p:nvPicPr>
        <p:blipFill>
          <a:blip r:embed="rId1"/>
          <a:stretch/>
        </p:blipFill>
        <p:spPr>
          <a:xfrm>
            <a:off x="304920" y="1676520"/>
            <a:ext cx="4572000" cy="4572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03" name="Rectangle 5"/>
          <p:cNvSpPr/>
          <p:nvPr/>
        </p:nvSpPr>
        <p:spPr>
          <a:xfrm>
            <a:off x="5791320" y="169056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urrea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5105520" y="2286000"/>
            <a:ext cx="388620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ate 1920s-1940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me from the nihilistic genre of D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fluenced by Feud’s theories on psychoanalysis and the subconscio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fusing &amp; startling images like those in drea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0" y="152280"/>
            <a:ext cx="9144000" cy="112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Salvador Dali: </a:t>
            </a:r>
            <a:br>
              <a:rPr sz="3400"/>
            </a:br>
            <a:r>
              <a:rPr b="0" i="1" lang="en-US" sz="3400" spc="-1" strike="noStrike">
                <a:solidFill>
                  <a:srgbClr val="bbe0e3"/>
                </a:solidFill>
                <a:latin typeface="Exotc350 Bd BT"/>
              </a:rPr>
              <a:t>The Persistence of Memory</a:t>
            </a: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 (1931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The_Persistence_of_Memory"/>
          <p:cNvPicPr/>
          <p:nvPr/>
        </p:nvPicPr>
        <p:blipFill>
          <a:blip r:embed="rId1"/>
          <a:stretch/>
        </p:blipFill>
        <p:spPr>
          <a:xfrm>
            <a:off x="1066680" y="1371600"/>
            <a:ext cx="7086600" cy="5143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380880" y="152280"/>
            <a:ext cx="8458200" cy="112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Salvador Dali:  </a:t>
            </a:r>
            <a:r>
              <a:rPr b="0" i="1" lang="en-US" sz="3400" spc="-1" strike="noStrike">
                <a:solidFill>
                  <a:srgbClr val="bbe0e3"/>
                </a:solidFill>
                <a:latin typeface="Exotc350 Bd BT"/>
              </a:rPr>
              <a:t>The Apparition of the Face and Fruit Dish on a Beach</a:t>
            </a: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  (1938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Dali-1938---Apparition-of-F"/>
          <p:cNvPicPr/>
          <p:nvPr/>
        </p:nvPicPr>
        <p:blipFill>
          <a:blip r:embed="rId1"/>
          <a:srcRect l="0" t="0" r="0" b="4668"/>
          <a:stretch/>
        </p:blipFill>
        <p:spPr>
          <a:xfrm>
            <a:off x="1295280" y="1371600"/>
            <a:ext cx="6629400" cy="5151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380880" y="152280"/>
            <a:ext cx="8458200" cy="112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Salvador Dali:  </a:t>
            </a:r>
            <a:r>
              <a:rPr b="0" i="1" lang="en-US" sz="3400" spc="-1" strike="noStrike">
                <a:solidFill>
                  <a:srgbClr val="bbe0e3"/>
                </a:solidFill>
                <a:latin typeface="Exotc350 Bd BT"/>
              </a:rPr>
              <a:t>Geopoliticus Child Watching the Birth of a New Man</a:t>
            </a: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  (1943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Dali-1943---Geopoliticus-Ch"/>
          <p:cNvPicPr/>
          <p:nvPr/>
        </p:nvPicPr>
        <p:blipFill>
          <a:blip r:embed="rId1"/>
          <a:srcRect l="0" t="0" r="0" b="4000"/>
          <a:stretch/>
        </p:blipFill>
        <p:spPr>
          <a:xfrm>
            <a:off x="1523880" y="1357200"/>
            <a:ext cx="6096240" cy="5272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152280" y="212760"/>
            <a:ext cx="899172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Edvard Munch:  </a:t>
            </a:r>
            <a:r>
              <a:rPr b="0" i="1" lang="en-US" sz="3400" spc="-1" strike="noStrike">
                <a:solidFill>
                  <a:srgbClr val="bbe0e3"/>
                </a:solidFill>
                <a:latin typeface="Exotc350 Bd BT"/>
              </a:rPr>
              <a:t>The Scream</a:t>
            </a: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 (1893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The Scream"/>
          <p:cNvPicPr/>
          <p:nvPr/>
        </p:nvPicPr>
        <p:blipFill>
          <a:blip r:embed="rId1">
            <a:lum contrast="6000"/>
          </a:blip>
          <a:srcRect l="1785" t="0" r="1723" b="0"/>
          <a:stretch/>
        </p:blipFill>
        <p:spPr>
          <a:xfrm>
            <a:off x="457200" y="928800"/>
            <a:ext cx="4173480" cy="5700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7" name="Rectangle 4"/>
          <p:cNvSpPr/>
          <p:nvPr/>
        </p:nvSpPr>
        <p:spPr>
          <a:xfrm>
            <a:off x="5181480" y="2224080"/>
            <a:ext cx="335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Expressio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5029200" y="2970360"/>
            <a:ext cx="3657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Using bright colors to express a particular emo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152280" y="228600"/>
            <a:ext cx="899172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Walter Gropius:  Bauhaus Building (1928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020_Dessau%20Bauhaus"/>
          <p:cNvPicPr/>
          <p:nvPr/>
        </p:nvPicPr>
        <p:blipFill>
          <a:blip r:embed="rId1"/>
          <a:srcRect l="0" t="0" r="0" b="6382"/>
          <a:stretch/>
        </p:blipFill>
        <p:spPr>
          <a:xfrm>
            <a:off x="3886200" y="1143000"/>
            <a:ext cx="4800600" cy="3370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13" name="Rectangle 5"/>
          <p:cNvSpPr/>
          <p:nvPr/>
        </p:nvSpPr>
        <p:spPr>
          <a:xfrm>
            <a:off x="533520" y="169056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Bauha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304920" y="2438280"/>
            <a:ext cx="845820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 utopian qua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ased on the ideal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f simplified form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d unadorne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unctionalis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belief that the machine economy could deliver elegantly designed items for the m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sed techniques &amp; materials employed especially in industrial fabrication &amp; manufacture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steel, concrete, chrome, g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152280" y="289080"/>
            <a:ext cx="899172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Walter Gropius:  Lincoln, MA house (1938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lincoln-v"/>
          <p:cNvPicPr/>
          <p:nvPr/>
        </p:nvPicPr>
        <p:blipFill>
          <a:blip r:embed="rId1"/>
          <a:stretch/>
        </p:blipFill>
        <p:spPr>
          <a:xfrm>
            <a:off x="914400" y="1143000"/>
            <a:ext cx="7620120" cy="5118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52280" y="228600"/>
            <a:ext cx="899172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Franz Marc:  </a:t>
            </a:r>
            <a:r>
              <a:rPr b="0" i="1" lang="en-US" sz="3400" spc="-1" strike="noStrike">
                <a:solidFill>
                  <a:srgbClr val="bbe0e3"/>
                </a:solidFill>
                <a:latin typeface="Exotc350 Bd BT"/>
              </a:rPr>
              <a:t>Animal Destinies</a:t>
            </a: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 (1913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800px-Fate-animal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990720"/>
            <a:ext cx="7620120" cy="5600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152280" y="136440"/>
            <a:ext cx="899172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Wassily Kandinsky:  </a:t>
            </a:r>
            <a:r>
              <a:rPr b="0" i="1" lang="en-US" sz="3400" spc="-1" strike="noStrike">
                <a:solidFill>
                  <a:srgbClr val="bbe0e3"/>
                </a:solidFill>
                <a:latin typeface="Exotc350 Bd BT"/>
              </a:rPr>
              <a:t>On White II</a:t>
            </a: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 (1923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493px-Kandinsky_wh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38480" y="847800"/>
            <a:ext cx="4695840" cy="5705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914400" y="685800"/>
            <a:ext cx="3429000" cy="112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Gustav Klimt: </a:t>
            </a:r>
            <a:br>
              <a:rPr sz="3400"/>
            </a:br>
            <a:r>
              <a:rPr b="0" i="1" lang="en-US" sz="3400" spc="-1" strike="noStrike">
                <a:solidFill>
                  <a:srgbClr val="bbe0e3"/>
                </a:solidFill>
                <a:latin typeface="Exotc350 Bd BT"/>
              </a:rPr>
              <a:t>Judith I</a:t>
            </a: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  (1901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914400" y="281952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ecession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Judith I"/>
          <p:cNvPicPr/>
          <p:nvPr/>
        </p:nvPicPr>
        <p:blipFill>
          <a:blip r:embed="rId1"/>
          <a:stretch/>
        </p:blipFill>
        <p:spPr>
          <a:xfrm>
            <a:off x="4975200" y="228600"/>
            <a:ext cx="3102120" cy="6400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6" name="Text Box 6"/>
          <p:cNvSpPr/>
          <p:nvPr/>
        </p:nvSpPr>
        <p:spPr>
          <a:xfrm>
            <a:off x="685800" y="3524400"/>
            <a:ext cx="38862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isrupt the conservative values of Viennese socie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essed with the sel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an is a sexual being, leaning toward despa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5105520" y="2346480"/>
            <a:ext cx="3276360" cy="191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Gustav Klimt: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bbe0e3"/>
                </a:solidFill>
                <a:latin typeface="Exotc350 Bd BT"/>
              </a:rPr>
              <a:t>Wrogie sily </a:t>
            </a:r>
            <a:br>
              <a:rPr sz="3400"/>
            </a:b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(1901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gustav_klimt_wrogie_sily_1902"/>
          <p:cNvPicPr/>
          <p:nvPr/>
        </p:nvPicPr>
        <p:blipFill>
          <a:blip r:embed="rId1"/>
          <a:srcRect l="0" t="0" r="1542" b="3235"/>
          <a:stretch/>
        </p:blipFill>
        <p:spPr>
          <a:xfrm>
            <a:off x="914400" y="228600"/>
            <a:ext cx="3614760" cy="6477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380880" y="228600"/>
            <a:ext cx="861084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Gustav Klimt: </a:t>
            </a:r>
            <a:r>
              <a:rPr b="0" i="1" lang="en-US" sz="3400" spc="-1" strike="noStrike">
                <a:solidFill>
                  <a:srgbClr val="bbe0e3"/>
                </a:solidFill>
                <a:latin typeface="Exotc350 Bd BT"/>
              </a:rPr>
              <a:t>The Kiss  </a:t>
            </a: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(1907-8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The Kiss"/>
          <p:cNvPicPr/>
          <p:nvPr/>
        </p:nvPicPr>
        <p:blipFill>
          <a:blip r:embed="rId1"/>
          <a:stretch/>
        </p:blipFill>
        <p:spPr>
          <a:xfrm>
            <a:off x="2133720" y="990720"/>
            <a:ext cx="4997160" cy="5610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380880" y="228600"/>
            <a:ext cx="861084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Gustav Klimt: </a:t>
            </a:r>
            <a:r>
              <a:rPr b="0" i="1" lang="en-US" sz="3400" spc="-1" strike="noStrike">
                <a:solidFill>
                  <a:srgbClr val="bbe0e3"/>
                </a:solidFill>
                <a:latin typeface="Exotc350 Bd BT"/>
              </a:rPr>
              <a:t>Danae  </a:t>
            </a: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(1907-8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Danae"/>
          <p:cNvPicPr/>
          <p:nvPr/>
        </p:nvPicPr>
        <p:blipFill>
          <a:blip r:embed="rId1"/>
          <a:stretch/>
        </p:blipFill>
        <p:spPr>
          <a:xfrm>
            <a:off x="1752480" y="990720"/>
            <a:ext cx="5791320" cy="5540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4T14:57:46Z</dcterms:created>
  <dc:creator>Ms. Susan M. Pojer</dc:creator>
  <dc:description/>
  <dc:language>en-US</dc:language>
  <cp:lastModifiedBy>admin</cp:lastModifiedBy>
  <dcterms:modified xsi:type="dcterms:W3CDTF">2013-04-12T12:42:53Z</dcterms:modified>
  <cp:revision>22</cp:revision>
  <dc:subject/>
  <dc:title>Early Modern Art</dc:title>
</cp:coreProperties>
</file>